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E098-073F-4960-B061-C6A80D52E33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30BC-24ED-490B-AFB7-C1565275CC5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7268-0430-402E-A70E-C746EF12875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CD50-0548-4792-A96C-4929E50C774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DE23-9F23-4593-AA40-D678A3E827C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1320-BFCB-4094-9885-BBF5D2721BF0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D97D-FF10-4CF3-8C65-E7E34A0B912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2A08-8915-46AF-8AD2-6E977136A3B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78EC-AB93-44C6-A778-73DD40637340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A9D4-2195-4B67-A043-1E5556C4103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75B4-0B53-48FF-A6B1-5331AEE3991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DFD1-0ACC-42B2-B09C-59DD13CC46F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244B-847D-4F72-A8A6-0DF02732346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0A99-4D15-47DD-8782-785A18343BA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489C-C2FC-4D8B-B3F6-ACD39188D76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ACA9-BA16-425B-9283-38E814C29527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1D7F-5C5A-4385-BB0A-77E3C6C3DA0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4573-5B84-40A8-B74D-7A62A365D4F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09D0-5EBA-4911-B0F3-9902B7ABE9CB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7235-1E47-4083-A303-A44B577CE09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3602-C05A-4CF2-89C6-915FCD39C29B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BFD0-9BE7-44FE-8450-F0C1627F072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20CC-DC67-4987-A836-5D3A0D716A3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8643-130B-41A4-BD18-5FCAEB6518D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02EB-C928-4ABD-99FD-A6830240F4C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0A99-FF32-495B-8230-177AAC245F37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D370-75DA-4B1F-9907-A1E433FFBBE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6467-3088-4203-B676-21CDDE3810B7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14D7-AEEA-45CE-AF77-F9CCFFC56A6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65D5-1E1C-4425-91F1-47EEBEFDD93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F14E-658C-4F0F-B118-053B931DD9B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D82-CDEB-4A7F-A549-E3569F44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2FA-C8C9-4728-801E-89F3C837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C7FDB-BC9C-4DF1-A0D6-8C0B99C5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F2884-34DD-4A01-9D5D-E3A33F62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930F5-52C4-4631-84BB-9047614F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91CE3-6925-49B5-914B-7ADE53F9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ECDCB-7396-4851-AFC1-7D5EF05D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7B18C-0242-4226-B248-E87A96B9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CFD95-0CB5-4839-B2CA-73BCD4C5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F9CB6-5E16-48A2-BF91-AD2FC541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3FF01-1EEA-49DF-A0A5-F6A5DF95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06F37-E38E-44D3-9847-9D2100CB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54B-570C-4358-BB58-B633D503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08C54-7010-49F8-9AF6-A3BE9B56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849B7-3326-4020-8DFE-652BA85F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9C356-B7AB-4DF1-AD79-132FE436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410C8-C128-4C27-9162-00B11B51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9FE04-940F-4265-9E88-B0E182A8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EA3DB-CC0E-4106-8B27-9EE94B13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41624-4722-4269-BE4B-F0098486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3EE0B-2470-4875-BB8B-499E2AD6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B497E-6FED-4292-83E2-A9950731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6DEA3-A075-4525-81E4-DF01AADF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6F57-5D15-442B-AE2A-4963C81E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0032A-A288-4F4F-9BE9-64BB81B7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2160F-BFCA-4D9D-8E08-10C48E74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9837D-46B2-4DFB-BC21-F7491AD6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C47B6-2C90-4B28-8809-1245DD69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90023-D522-4998-B97A-B02127A9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6DC96-12FD-424C-A985-6EEF3DE1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D33D3-5E06-4F5F-95ED-E40D3B2F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D6B79-B5B8-429B-B5C1-052381C4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72C28-E91F-4E93-B82D-F05C8CD7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842A2-CFBF-4418-BA90-9018CBB1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617C-8E38-47D4-95D9-7807B30F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2E2A6-2D81-40F8-BFBB-9439E1D1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EF3B8-B5EE-4906-8C39-2F579C05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F2D74-5C60-43DF-AF4A-6F3A424F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CBA25-2147-49DD-8E03-9EF5ED94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9FA70-7945-42AF-9E63-E8B2F313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EC7A7-D837-437D-826C-552A107C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1E628-4FA3-4DEE-8224-62165B24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7A779-D861-4698-962A-F961E567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DA093-058B-4F9B-B98F-796AC288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77B61-6B94-4461-BD13-68E2690A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5060-9EDA-4C2E-AD54-F1C1E5A9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A75B6-8506-427E-93C0-013E4997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207C8-6C3A-4865-92B3-FE6D1AFC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C9BF5-9422-4B9C-B0C6-E1791092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70FC3-1CD0-4407-BD1C-D1A9F349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F348F-8ABD-403A-B7DC-205A03B6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0149A-E649-4E28-AD64-E39166DA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C9F7B-63E0-42F8-B86F-282F56A2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C7CA6-7263-4343-A200-C17328DA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89E72-0358-479F-8A0B-C92B5DD2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E762C-E46C-4DE9-9B2F-06314F53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257F-9EA9-45FB-9D9C-C81B361E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09A5A-714A-468C-8372-CF60513D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184DC-1BC6-476E-9B31-0DE7E6B4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9A12D-AAF1-46F9-8D02-49396313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584C71-AF75-43B5-AA28-FA81C80A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5312C-24B4-487A-80B4-F841916F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346EB-9FD7-4DCF-B2F5-98C3EA54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8D6F3-DDF1-4CAB-803F-335DA29D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1206-CB7D-4F93-A3BA-E17FA037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5146-1970-4339-9222-C917EF6D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07C5-3984-494C-82B0-E78CA250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C503-B7F5-4AF1-84E1-55287B37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42B-7324-4FE2-8420-A73FCA7F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0451-4DC1-42A4-8B23-C9F13EF4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D468-4A2C-4392-A031-07804E77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4D51-952A-4A97-972B-3F9847B4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4101-C989-45BE-96D2-17238984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93C2-B4E5-44DF-A955-2A951852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E7BC5-3923-4A46-8B53-EA45A327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937D3-587B-4E30-90DD-D01F1437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A4E2D-F1D9-4329-B99F-C1BC3D83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08A2F-B20B-4FE0-8E3D-A40AC02E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7C3F8-9945-485C-A82C-A558DC59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FF9-D8A4-431B-B147-62A16557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B3E19-38C9-4C88-8E10-3586011B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01C0C-7B05-43D0-B0BE-CB53834C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E469D-15A0-45F5-BAF5-73ED5F9A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36FBA-1872-45D2-86B7-305AE166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D07E3-09E0-4DFA-8122-46499D4D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E422B-4281-4A9C-9A5F-7D0FB6CB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4B5A4-EC81-43D5-A3BA-24442EF0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EB12D-D3A0-4575-971D-3485A40E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33F47-D3D7-4E34-A8B0-6F4D872F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A9B71-7913-4E63-A041-763BB7D7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E090-56E2-4AAF-BD5B-6CE6A868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ACFA5-9D35-4D48-8D03-3F476EA7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303FB-C818-488E-9026-D4CE7823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BAC2B-F389-48F9-88B8-43B5B986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02C69-CD9C-4D20-B6E6-A2C02C67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F59AB-06BE-41C7-A91A-9E0C6CE4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7A881-721B-49BB-B622-1DAA8C89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6AA1-9C38-4330-8A66-3EF68852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3461F-6552-454B-A6F3-B29E1A5A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0A18E-EAF0-4505-86A6-B32326B1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97654-D9E8-403E-BD69-9C223AEA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F14-7221-41AC-BE81-DB8A5B71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F8DAB-FC2B-4226-8703-277A5D3D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CC461-98FB-43DA-B54D-DF415F0A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597DF-2527-4E9A-98C6-6665C527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CA6E0-5160-4C2D-8468-378B136D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D636B-EDAB-404E-917C-CFE1FBDF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73492-028C-4F5D-9383-EC4934D7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9A228-D8D0-4FCF-B870-3BBDEBE8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E8B10-49E6-437B-8345-876ED95F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82A3B-7476-4269-8942-2A049133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AAAF0-A96D-41D4-AE5F-40D20572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962-DB6F-48F0-8C74-9E72BC3C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E6771-A6A2-4B8B-89EF-9905FB44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7C1BE-2595-4246-BF2B-C4D066A2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B8B7D-3094-44B3-8F6C-7A054DB3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8AB65-036F-46DF-9F5E-1DE19B46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A90C8-810E-403A-B05F-455F9475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07B28-02F4-4663-8D4B-4CD54157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B473E-9918-4F28-B77D-CEEABB4A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E100B-7A49-455D-B7E0-747F74B4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0A0CF-4374-4C2F-8E5A-6AEF866A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6055D-FB17-46A4-9B38-1CBB7553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35B-C814-4657-AAED-59B30F6E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54A45-A503-4A6E-A721-74042E95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ECCB0-C151-425B-9578-8E92453D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2ED88-CCF7-415C-86C0-027E623C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3ACC8-23C3-424B-96D5-AAED953F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4485C-F070-48C4-BD09-5A669253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9E6EB-CD8B-4412-A2E8-5D09425B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C2F2F-2BFE-466B-BF07-09EC9901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63DF4-9BE5-4DBD-8075-847377B4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8F49D-C67F-45F2-B540-0B6D80CF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E0DA8-DF73-400C-AE4A-40CFACF8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E78-74B5-4317-B3F1-6F265865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5BE66-307D-4DC9-905D-58792E2A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3C27B-5A3A-47EB-83D3-96F470F8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67146-81A0-4D0A-8D98-1EB4563A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4BC09-029A-4DD0-8542-7BFA124E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4C6D5-13B3-4618-AAE8-4E87BCFF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F455E-91E3-45BD-91E0-23B2D18C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5EEDE-BDDD-4369-A1DE-1F9174C6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78B84-B823-4185-B954-66DDB10E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8282F-421B-47C3-B750-B4D6BD6B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E8FF7-8F1C-46F8-B6D8-1A0AC0A3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16E-3920-46A5-89DB-D5A92FF8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C5462-987F-4A27-B58C-7F249448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0965D-3F4B-470E-96E6-8B78662C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EA18B-9536-4D18-BB89-8666D93C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0066B-963C-4EA3-88D7-6010EDB5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0217D-50CD-49CD-B56B-9C216B6C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4DDD4-1ACD-4099-9DA4-950687CC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128F5-B478-4A4E-A4D6-8FFF69E9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52B54-2521-409A-A42E-07B8B462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38E6E-6F56-44F4-8B29-94AD0C49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ECDD4-45A5-41F4-B336-A9D6D48B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7E4E-450A-44B0-BA4D-D4A240130009}" type="datetime3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0 luglio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D625-7CCE-4DA0-9FEA-6D9A341CD6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FEFF-8316-4289-8C79-E49E57D300F3}" type="datetime3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0 luglio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983C-0DD0-42BB-AFDD-9B1CECEF96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C457-9C8C-403B-BDBF-FD74A3F0D14D}" type="datetime3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0 luglio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7701-2F40-4991-BF32-97136AC8C47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C705-10FB-4AFF-92A2-BF06FC5DE950}" type="datetime3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0 luglio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A0ED-C5A1-46D1-BC92-171630F4A0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B48B-3A00-401C-B2C0-D5CECAC909C0}" type="datetime3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30 luglio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2DC4-02AA-4148-992F-31A1F26242AE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6D1F-151D-493E-AD93-33B0C53ED5C0}" type="datetime3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0 luglio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F346-3B58-462F-85DA-C2178B2943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D922-2B78-4A79-A238-BF4203F411E2}" type="datetime3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0 luglio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205E-8730-4682-AC52-37EFCC90C70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D7B0-8219-4552-8ED1-91BBA809B80C}" type="datetime3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0 luglio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DCD1-6559-4BF2-8659-75E48C5753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AA54-3BD9-4847-AC9E-8A366B3DB6DC}" type="datetime3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0 luglio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5070-29BB-4E9E-9AF1-8D66867915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57D1-7E05-48CD-914A-5EAB652D7D57}" type="datetime3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0 luglio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9CB3-9C8D-4D6B-BE85-AA8AC84C0DF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52B7-6651-47B2-B28F-E65CB3A75BED}" type="datetime3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0 luglio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4156-3D17-4474-8272-CFC489B71F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EB00-A719-4101-A36C-93F41E345DEA}" type="datetime3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0 luglio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39D9-8A93-46D6-9EFC-D67D71BC3D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6D6D-6D0A-4BBD-8846-B802E9B63948}" type="datetime3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30 luglio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D28D-C79E-4FDC-A214-D9D5FA64F8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Ing.basti@gmail.com" TargetMode="External"/><Relationship Id="rId2" Type="http://schemas.openxmlformats.org/officeDocument/2006/relationships/hyperlink" Target="http://www.bastiandreaingegneria.com/" TargetMode="External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0000"/>
                </a:solidFill>
                <a:latin typeface="Haettenschweiler"/>
              </a:rPr>
              <a:t>Edifici di civile abitazione</a:t>
            </a:r>
            <a:br>
              <a:rPr sz="5400"/>
            </a:br>
            <a:r>
              <a:rPr b="0" lang="it-IT" sz="5400" spc="-1" strike="noStrike">
                <a:solidFill>
                  <a:srgbClr val="ff0000"/>
                </a:solidFill>
                <a:latin typeface="Haettenschweiler"/>
              </a:rPr>
              <a:t>Ing. Andrea Basti</a:t>
            </a:r>
            <a:br>
              <a:rPr sz="5400"/>
            </a:br>
            <a:r>
              <a:rPr b="0" lang="it-IT" sz="5400" spc="-1" strike="noStrike">
                <a:solidFill>
                  <a:srgbClr val="ff0000"/>
                </a:solidFill>
                <a:latin typeface="Haettenschweiler"/>
              </a:rPr>
              <a:t>Ricercatore INFN-LNG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59" name="Immagine 2" descr="Infn_Logo.jpg"/>
          <p:cNvPicPr/>
          <p:nvPr/>
        </p:nvPicPr>
        <p:blipFill>
          <a:blip r:embed="rId1"/>
          <a:stretch/>
        </p:blipFill>
        <p:spPr>
          <a:xfrm>
            <a:off x="6143760" y="4714920"/>
            <a:ext cx="2612880" cy="1923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Reazione al fuoc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76212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per i materiali di arredamento e di rivestimento si applica il decreto ministeriale 26 giugno 1984 (supplemento ordinario alla Gazzetta Ufficiale n. 234 del 25 agosto 198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3632040" y="38088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Comportamento al fuoco delle strut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Reazione al fuoc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84428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-3654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Le scale ed i gradini per gli androni e passaggi comuni devono essere realizzati con materiali di classe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5400" indent="-3654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Sono ammessi materiali di rivestimento di classe 1, per androni e passaggi comuni e, limitatamente agli edifici di tipo «a» e di tipo «b», anche per i rivestimenti delle scale e gradi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5400" indent="-3654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Non sono soggetti a tali prescrizioni le scale e i passaggi ubicati all'interno della stessa unità immobili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3632040" y="38088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Comportamento al fuoco delle strut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Accesso all’are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76212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larghezza: 3,5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altezza libera: 4,0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raggio di volta: 13,0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pendenza: non superiore al 1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resistenza al carico: almeno 20 tonnellate (8 sull'asse anteriore e 12 sull'asse posteriore; passo 4,00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Accostamento autosca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6212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Per gli edifici di </a:t>
            </a:r>
            <a:r>
              <a:rPr b="1" lang="it-IT" sz="2800" spc="-1" strike="noStrike" u="sng">
                <a:solidFill>
                  <a:srgbClr val="ff0000"/>
                </a:solidFill>
                <a:uFillTx/>
                <a:latin typeface="Arial Narrow"/>
              </a:rPr>
              <a:t>tipo «a» e «b»</a:t>
            </a: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 deve essere assicurata la possibilità di accostamento delle autoscale dei vigili del fuoco almeno ad una qualsiasi finestra o balcone di ogni pi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Qualora tale requisito non sia soddisfat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gli edifici del tipo «a» devono essere dotati almeno di scale protet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gli edifici di tipo «b» almeno di scale a prova di fumo inte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Sca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85800" y="18442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larghezza minima delle sc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tipo «a», «b», «c», </a:t>
            </a: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1.05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tipo «d» ed «e» </a:t>
            </a: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1.20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rampe preferibilmente rettilin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sono ammesse rampe non rettilinee a condizione ch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vi siano pianerottoli di ripo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la pedata del gradino sia almeno 30 cm misurata a 40 cm dal montante centrale o dal parapett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Sca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6212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il vano scala deve avere superficie netta di aerazione permanente in sommità non inferiore ad 1 m</a:t>
            </a:r>
            <a:r>
              <a:rPr b="1" lang="it-IT" sz="2800" spc="-1" strike="noStrike" baseline="30000">
                <a:solidFill>
                  <a:srgbClr val="ff0000"/>
                </a:solidFill>
                <a:latin typeface="Arial Narro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nel vano di aerazione è consentita l'installazione di dispositivi per la protezione dagli agenti atmosfer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Vano cor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6212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stesse caratteristiche REI del vano scal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superficie netta di aerazione permanente in sommità non inferiore al 3% dell'area del vano stesso, e comunque non inferiore a 0,20 m</a:t>
            </a:r>
            <a:r>
              <a:rPr b="1" lang="it-IT" sz="2800" spc="-1" strike="noStrike" baseline="30000">
                <a:solidFill>
                  <a:srgbClr val="ff0000"/>
                </a:solidFill>
                <a:latin typeface="Arial Narro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Verdana"/>
              </a:rPr>
              <a:t>possibilità di realizzare l’aerazione tramite cami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Verdana"/>
              </a:rPr>
              <a:t>possibilità di installazione di dispositivi per la protezione dagli agenti atmosfer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410080" y="3808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Ascensor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Vano cor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76212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Nel vano corsa sono ammesse le seguenti apertu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accessi alle porte di pian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aperture permanenti consentite dalle specifiche normative fra il vano corsa e il locale macchine e/o delle pulegge di rinvi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portelli d'ispezione e/o porte di soccorso con le stesse caratteristiche di resistenza al fuoco del vano cors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aperture di aerazione e di scarico dei prodotti di combustion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5410080" y="3808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Ascensor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Vano cor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773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Nel vano corsa non possono essere poste in opera canne fumarie, condutture o tubazioni che non appartengono all'impianto ascens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Quando il numero degli ascensori è superiore a due essi devono essere disposti in almeno due vani di corsa distin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Il filtro a prova di fumo per vano scale e vano corsa dell'ascensore può essere comu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410080" y="3808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Ascensor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Locale macch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76212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separato dagli altri ambienti dell'edificio con strutture di resistenza al fuoco equivalente a quella del vano cor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l'accesso con infisso di pari caratteristiche del vano cor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superficie netta di aerazione permanente non inferiore al 3% della superficie del pavimento, con un minimo di 0,05 m</a:t>
            </a:r>
            <a:r>
              <a:rPr b="1" lang="it-IT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5410080" y="3808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Ascensor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Decreto Ministero dell’Interno</a:t>
            </a:r>
            <a:br>
              <a:rPr sz="4400"/>
            </a:b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16 maggio 1987,  n. 246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762120" y="2361960"/>
            <a:ext cx="75549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Norme di sicurezza antincendi per gli edifici di civile abitazione</a:t>
            </a:r>
            <a:r>
              <a:rPr b="1" lang="it-IT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 Narrow"/>
              </a:rPr>
              <a:t>Gazzetta Ufficiale n. 148 del 27 giugno 198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Comunicazion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85800" y="14126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Narrow"/>
              </a:rPr>
              <a:t>Sono consentite le comunicazioni tra scale, ascensori e locali cantinati pertinenti le abitazioni dell'edificio secondo quanto segu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701640" y="2708280"/>
          <a:ext cx="7740720" cy="3476520"/>
        </p:xfrm>
        <a:graphic>
          <a:graphicData uri="http://schemas.openxmlformats.org/drawingml/2006/table">
            <a:tbl>
              <a:tblPr/>
              <a:tblGrid>
                <a:gridCol w="2705040"/>
                <a:gridCol w="5035680"/>
              </a:tblGrid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Tipo di edific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Tipo di comunicazi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Diret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tramite disimpegno con pareti e porte REI 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tramite filtro a prova di fumo con pareti e porte REI 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d, 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accesso diretto esclusivamente da spazio scoper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Aree a rischio specific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76212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Per le aree a rischio specifico si  applicano le disposizioni emanate con le relative n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 Narrow"/>
              </a:rPr>
              <a:t>autorime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 Narrow"/>
              </a:rPr>
              <a:t>centrali termi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 Narrow"/>
              </a:rPr>
              <a:t>locali di esposizione o vend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 Narrow"/>
              </a:rPr>
              <a:t>depositi di materiali combustibi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 Narrow"/>
              </a:rPr>
              <a:t>ecc.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Impianti di produzione di calo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900000" y="1828800"/>
          <a:ext cx="7417080" cy="2779560"/>
        </p:xfrm>
        <a:graphic>
          <a:graphicData uri="http://schemas.openxmlformats.org/drawingml/2006/table">
            <a:tbl>
              <a:tblPr/>
              <a:tblGrid>
                <a:gridCol w="1614600"/>
                <a:gridCol w="2057400"/>
                <a:gridCol w="2057400"/>
                <a:gridCol w="1687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Tipo di edific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Combustibile Liquido o sol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Ga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d&lt; 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Ga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d&gt; 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0" name="Text Box 101"/>
          <p:cNvSpPr/>
          <p:nvPr/>
        </p:nvSpPr>
        <p:spPr>
          <a:xfrm>
            <a:off x="900000" y="4869000"/>
            <a:ext cx="75963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 Narrow"/>
              </a:rPr>
              <a:t>1 = divieto di installazione entro il volume degli edifici</a:t>
            </a:r>
            <a:r>
              <a:rPr b="1" lang="it-IT" sz="1400" spc="-1" strike="noStrike">
                <a:solidFill>
                  <a:srgbClr val="000066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 Narrow"/>
              </a:rPr>
              <a:t>2 = divieto di installazione entro il volume degli edifici ma ammessa sul terrazzo più eleva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 Narrow"/>
              </a:rPr>
              <a:t>3 = divieto di installazione nei piani interrat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 Narrow"/>
              </a:rPr>
              <a:t>4 = ammesso entro il volume degli edific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Impianti elettric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571320" y="177300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 Narrow"/>
              </a:rPr>
              <a:t>Devono essere realizzati in conformità della legge 1° marzo 1968, n. 186 (norme CE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 Narrow"/>
              </a:rPr>
              <a:t>Negli edifici di tipo «c», «d», «e», deve essere installato un sistema di illuminazione di sicurez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deve garantire un'affidabile illuminazione e la segnalazione delle vie di es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deve avere alimentazione autonoma, centralizzata o localizz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Impiego gas combustibil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0912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Le condutture principali dei gas combustibili devono essere esterne al fabbricato ed a vi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 Narrow"/>
              </a:rPr>
              <a:t>si definiscono «condutture principali» le tubazioni al servizio comune delle utenze dell'edificio alimentato dall'impianto gas, cioè le sottocolonne e le colonne montan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Sono ammessi attraversamenti di locali purché le tubazioni siano poste in guaina metallica aperta alle due estremit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7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2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7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Impiego gas combustibil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11280" y="1752120"/>
            <a:ext cx="7999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E’ consentita l'installazione delle condutture principali all'interno dell'edificio in apposito alloggiamento il qua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sia ad esclusivo servizio dell'impianto g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abbia le pareti impermeabili ai g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sia permanentemente aerato con aperture alle due estremi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sia dotato, ad ogni piano, di sportello di ispezione a tenuta di gas e di resistenza al fuoco almeno REI 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può contenere anche i misuratori per l'utenza dei vari piani del fabbric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Impianti antincend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4560" y="17524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204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Gli edifici di tipo «b», «c», «d», «e», devono essere dotati di reti idranti costituita 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48564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almeno una colonna montante in ciascun vano scala dell'edi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48564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da essa deve essere derivato ad ogni piano almeno un idrante con attacco 45 U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48564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l naspo deve essere corredato di tubazione semirigida ed assicurare l'intervento in tutte le aree del pi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48564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un idoneo attacco di mandata per autopompa al piede di ogni colonna mont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Impianti antincend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4560" y="17524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95280" indent="-533160" algn="just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portata minima di 360 l/min per ogni colonna montante e funzionamento contemporaneo di 2 colon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alimentazione idrica in grado di assicurare l'erogazione, ai 3 idranti idraulicamente più sfavoriti, di 120 l/min cad., con una pressione residua al bocchello di bar 1,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durata di almeno 60 min, anche con riserva id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elettropompe di alimentazione della rete antincendio collegate all'alimentazione elettrica dell'edificio tramite linea propria non utilizzata per altre utenz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Impianti antincend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4560" y="17524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95280" indent="-533160" algn="just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Negli edifici di tipo «d», «e», i gruppi di pompaggio della rete antincendio devono essere costituiti da due pompe, una di riserva all'altra, alimentate da fonti di energia indipend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avviamento automatico dei gruppi di pompagg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tubazioni di alimentazione e quelle costituenti la rete devono essere protette dal gelo, da urti e dal fuo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295280" indent="-533160" algn="just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 Narrow"/>
              </a:rPr>
              <a:t>le colonne montanti possono correre, a giorno o incassate, nei vani scale oppure in appositi alloggiamenti REI 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2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Norme transitorie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20720" y="1844280"/>
            <a:ext cx="7702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Negli edifici esistenti, entro cinque anni della data di entrata in vigore delle presenti norme, devono essere attuate le seguenti prescrizion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 Narrow"/>
              </a:rPr>
              <a:t>Comunicazion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6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 Narrow"/>
              </a:rPr>
              <a:t>Negli edifici di tipo «b», «c», «d», «e», sono ammesse le comunicazioni di cui al secondo comma del punto 2.6 attraverso porte RE 30, anche senza disimpegno, filtro a prova di fumo o accesso diretto da spazio scoperto.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 Narrow"/>
              </a:rPr>
              <a:t>Illuminazione di sicurezz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6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 Narrow"/>
              </a:rPr>
              <a:t>Negli edifici di tipo «c», «d», «e», deve essere installato un sistema di illuminazione di sicurezza in conformità con quanto specificato al punto 5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0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5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8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3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6" dur="5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Campo di applicazione</a:t>
            </a: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543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06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edifici di civile abitazione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 Narrow"/>
              </a:rPr>
              <a:t>con altezza antincendi uguale o superiore a 12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 Narrow"/>
              </a:rPr>
              <a:t>di nuova costru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 Narrow"/>
              </a:rPr>
              <a:t>esistenti, in caso di ristrutturazione che comportino modifiche sostanziali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Norme transitorie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Narrow"/>
              </a:rPr>
              <a:t>Negli edifici esistenti, entro cinque anni della data di entrata in vigore delle presenti norme, devono essere attuate le seguenti prescrizion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 Narrow"/>
              </a:rPr>
              <a:t>Impianti antincend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6980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 Narrow"/>
              </a:rPr>
              <a:t>Negli edifici di tipo «c», «d», «e», devono essere installati impianti antincendio fissi conformi al punto 7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6980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 Narrow"/>
              </a:rPr>
              <a:t>Restano tuttavia validi di impianti già installati a condizione che siano sempre assicurate le prestazioni idrauliche di cui al punto 7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egnaposto numero diapositiva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A148-C66D-4BBA-BDD8-5B41B2218C3A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Grazie per l’attenzione!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9" name="Rectangle 2"/>
          <p:cNvSpPr/>
          <p:nvPr/>
        </p:nvSpPr>
        <p:spPr>
          <a:xfrm>
            <a:off x="642960" y="3357720"/>
            <a:ext cx="77151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Ing. Andrea Bas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Via Salaria Antica Est N°3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E-mail: </a:t>
            </a:r>
            <a:r>
              <a:rPr b="0" lang="it-IT" sz="4400" spc="-1" strike="noStrike" u="sng">
                <a:solidFill>
                  <a:srgbClr val="9999ff"/>
                </a:solidFill>
                <a:uFillTx/>
                <a:latin typeface="Arial Narrow"/>
                <a:hlinkClick r:id="rId1"/>
              </a:rPr>
              <a:t>Ing.basti@gmail.co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Sito internet: </a:t>
            </a:r>
            <a:r>
              <a:rPr b="0" lang="it-IT" sz="4400" spc="-1" strike="noStrike" u="sng">
                <a:solidFill>
                  <a:srgbClr val="9999ff"/>
                </a:solidFill>
                <a:uFillTx/>
                <a:latin typeface="Arial Narrow"/>
                <a:hlinkClick r:id="rId2"/>
              </a:rPr>
              <a:t>www.bastiandreaingegneria.co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Classificazione</a:t>
            </a: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838080" y="1803240"/>
          <a:ext cx="7772400" cy="4381560"/>
        </p:xfrm>
        <a:graphic>
          <a:graphicData uri="http://schemas.openxmlformats.org/drawingml/2006/table">
            <a:tbl>
              <a:tblPr/>
              <a:tblGrid>
                <a:gridCol w="3733920"/>
                <a:gridCol w="4038480"/>
              </a:tblGrid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Tipo di edif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Altezza antincend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da 12 a 24 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da oltre 24 a 32 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da oltre 32 a 54 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da oltre 54 a 80 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oltre 80 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Superficie dei compartimenti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838080" y="1803240"/>
          <a:ext cx="7772400" cy="4381560"/>
        </p:xfrm>
        <a:graphic>
          <a:graphicData uri="http://schemas.openxmlformats.org/drawingml/2006/table">
            <a:tbl>
              <a:tblPr/>
              <a:tblGrid>
                <a:gridCol w="3733920"/>
                <a:gridCol w="4038480"/>
              </a:tblGrid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Tipo di edif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Superficie massi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8.000 m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6.000 m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5.000 m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4.000 m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2.000 m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Resistenza al fuoc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212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è variabile in funzione del tipo di edif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il grado di protezione dei vani scala e dei vani ascensore (scale protette, filtri )dipende dalla superficie massima di competenza di ogni sc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per le strutture di pertinenza delle aree a rischio specifico devono applicarsi le disposizioni emanate nelle relative n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 Box 1028"/>
          <p:cNvSpPr/>
          <p:nvPr/>
        </p:nvSpPr>
        <p:spPr>
          <a:xfrm>
            <a:off x="3632040" y="38088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Comportamento al fuoco delle strut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Edifici di tipo “a” e “b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792000" y="1844640"/>
          <a:ext cx="7560000" cy="4022640"/>
        </p:xfrm>
        <a:graphic>
          <a:graphicData uri="http://schemas.openxmlformats.org/drawingml/2006/table">
            <a:tbl>
              <a:tblPr/>
              <a:tblGrid>
                <a:gridCol w="2059200"/>
                <a:gridCol w="3200400"/>
                <a:gridCol w="23004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Massima superficie di competenza per ogni scala di pi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Tipi dei vani scala e di almeno un vano ascens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Caratteristiche REI dei vani scala e ascensore, filtri, porte, elementi di suddivisione tra i compartimen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Nessuna prescrizione 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Almeno protetto se non è garantito l’accostamento delle autosc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5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Almeno a prova di fumo inter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A prova di fu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Edifici di tipo “c” e “d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755640" y="2422440"/>
          <a:ext cx="7704000" cy="2103480"/>
        </p:xfrm>
        <a:graphic>
          <a:graphicData uri="http://schemas.openxmlformats.org/drawingml/2006/table">
            <a:tbl>
              <a:tblPr/>
              <a:tblGrid>
                <a:gridCol w="2139840"/>
                <a:gridCol w="2995560"/>
                <a:gridCol w="25686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Massima superficie di competenza per ogni scala di pi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Tipi dei vani scala e di almeno un vano ascens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Caratteristiche REI dei vani scala e ascensore, filtri, porte, elementi di suddivisione tra i compartimen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Almeno a prova di fumo inter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 Narrow"/>
              </a:rPr>
              <a:t>Edifici di tipo 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755640" y="2422440"/>
          <a:ext cx="7632720" cy="2103480"/>
        </p:xfrm>
        <a:graphic>
          <a:graphicData uri="http://schemas.openxmlformats.org/drawingml/2006/table">
            <a:tbl>
              <a:tblPr/>
              <a:tblGrid>
                <a:gridCol w="2120760"/>
                <a:gridCol w="2967120"/>
                <a:gridCol w="25448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Massima superficie di competenza per ogni scala di pi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Tipi dei vani scala e di almeno un vano ascens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Caratteristiche REI dei vani scala e ascensore, filtri, porte, elementi di suddivisione tra i compartimen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3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Almeno a prova di fumo inter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o Giacalone</dc:creator>
  <dc:description/>
  <dc:language>en-US</dc:language>
  <cp:lastModifiedBy>Utente Windows</cp:lastModifiedBy>
  <dcterms:modified xsi:type="dcterms:W3CDTF">2010-05-21T14:48:49Z</dcterms:modified>
  <cp:revision>384</cp:revision>
  <dc:subject>Edifici di civile abitazione</dc:subject>
  <dc:title>Presentazione di PowerPoint</dc:title>
</cp:coreProperties>
</file>